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3D6-3C46-4EBE-8F12-17A6C0B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EB8-5463-4112-A7B7-384C7AE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651-B0AA-4028-8EC4-3058323B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4EC-568E-4926-9EC3-525AEC3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7A2-0064-42B7-9FAE-BF873BE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F41-3E7A-4948-92A2-3812D98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50B-A2EB-453E-B773-F671834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619-3EEB-4C2A-8EC1-B2867DE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48C-9A3F-4EE6-A5B3-074534C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BAE-E6E5-48B7-9AD3-B8B63059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12F-C857-49B3-910B-3F2B49A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D03-7710-4015-A8B3-2051B23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E12-780C-4AC3-9A43-25399EF191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enske.wikispaces.com/" TargetMode="External"/><Relationship Id="rId3" Type="http://schemas.openxmlformats.org/officeDocument/2006/relationships/hyperlink" Target="http://senske.wikispaces.com/" TargetMode="External"/><Relationship Id="rId4" Type="http://schemas.openxmlformats.org/officeDocument/2006/relationships/hyperlink" Target="http://senske.wikispaces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835200" y="476280"/>
            <a:ext cx="7327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907920" y="-60480"/>
            <a:ext cx="7328160" cy="1140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Went to Virginia Tech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(LOVE college football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9480" y="392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njoy running and watching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9480" y="529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Teach AP Stat, Applied Math, Intro to St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907920" y="-139680"/>
            <a:ext cx="7328160" cy="1146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Grew up in Bucks Coun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09480" y="17161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Went to Temple/Holy Family/Wide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2514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Live loc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3316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Enjoy traveling, sporting ev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3520" y="4191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Been with CB for 6 years, been teaching for 9 year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749160" y="-139680"/>
            <a:ext cx="765180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5720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2 teachers in the classroom at all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57200" y="1676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1 Math teacher, 1 Special Ed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457200" y="2438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Math teacher -&gt; content of the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Special Ed teacher -&gt; adaptations to in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33520" y="4764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A lot of in-class help availab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91440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EMAIL!!!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914400" y="20001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Voicemail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Rectangle 6" descr=""/>
          <p:cNvPicPr/>
          <p:nvPr/>
        </p:nvPicPr>
        <p:blipFill>
          <a:blip r:embed="rId1"/>
          <a:stretch/>
        </p:blipFill>
        <p:spPr>
          <a:xfrm>
            <a:off x="1865160" y="-36360"/>
            <a:ext cx="4707000" cy="1116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8" descr=""/>
          <p:cNvPicPr/>
          <p:nvPr/>
        </p:nvPicPr>
        <p:blipFill>
          <a:blip r:embed="rId2"/>
          <a:stretch/>
        </p:blipFill>
        <p:spPr>
          <a:xfrm>
            <a:off x="1736640" y="2700360"/>
            <a:ext cx="4975200" cy="1116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914400" y="3809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Before School (Ms. Lang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914400" y="46274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During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loc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914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After School (Mrs. McNel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2" descr=""/>
          <p:cNvPicPr/>
          <p:nvPr/>
        </p:nvPicPr>
        <p:blipFill>
          <a:blip r:embed="rId1"/>
          <a:stretch/>
        </p:blipFill>
        <p:spPr>
          <a:xfrm>
            <a:off x="165240" y="-208080"/>
            <a:ext cx="872316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116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Real World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09480" y="177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Business”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09480" y="253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Prepare students for the kind of math that they will do in their everyday l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09480" y="390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“When will I ever use this stuff?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VERYDA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09480" y="5124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* NO HOMEWORK!!  But we collect and grade everything done in clas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2057400" y="1298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c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05740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Checking and Savings Accou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339040" cy="834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057400" y="2478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Credit C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0574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Buying a 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2057400" y="36212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te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2057400" y="423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Ta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2057400" y="4840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Insu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2057400" y="5450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Loans and Mortg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8" descr=""/>
          <p:cNvPicPr/>
          <p:nvPr/>
        </p:nvPicPr>
        <p:blipFill>
          <a:blip r:embed="rId1"/>
          <a:stretch/>
        </p:blipFill>
        <p:spPr>
          <a:xfrm>
            <a:off x="2487600" y="1908000"/>
            <a:ext cx="4046400" cy="1116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304920" y="3056040"/>
            <a:ext cx="8610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Lauren Senske</cp:lastModifiedBy>
  <dcterms:modified xsi:type="dcterms:W3CDTF">2011-02-02T17:17:29Z</dcterms:modified>
  <cp:revision>54</cp:revision>
  <dc:subject/>
  <dc:title>Slide 1</dc:title>
</cp:coreProperties>
</file>